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12038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120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601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9"/>
          </p:nvPr>
        </p:nvSpPr>
        <p:spPr>
          <a:xfrm>
            <a:off x="3885840" y="-360"/>
            <a:ext cx="2971800" cy="601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419040" y="902880"/>
            <a:ext cx="6019920" cy="451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10"/>
          </p:nvPr>
        </p:nvSpPr>
        <p:spPr>
          <a:xfrm>
            <a:off x="-360" y="11437560"/>
            <a:ext cx="2971800" cy="601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11"/>
          </p:nvPr>
        </p:nvSpPr>
        <p:spPr>
          <a:xfrm>
            <a:off x="3885840" y="11437560"/>
            <a:ext cx="2971800" cy="601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9AC6C5-FCBA-420A-BE7B-E476B72AE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D3A9461-2237-4EAC-802A-531FC17A8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5719680"/>
            <a:ext cx="54864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11434680"/>
            <a:ext cx="29718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F09F-8656-4225-BF45-FCCAF49F9F61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F5D2A79-60F2-45D8-A6DB-035412BEC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5B451AF-A31D-4465-A77B-6B9892336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4097B89-C576-4597-9F37-387592322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E73F70B-278B-4EE6-8FD8-D82BE9DAA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C establishe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l immigration Partnerships (LIPs) in Ontario in two for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ity-wide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eighbourhood-based LIPs in Toronto (total cost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4 mill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munity-wide LIPs in Ontario (total cost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5.2 mill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ote that the amounts are an esti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154091C-7F3D-4C46-BDCA-19EF70B7B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83C632E-A21B-415A-8014-5F8319DE0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119-CF1A-4DFE-9104-22889B7A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3E0-0212-43A8-9915-AEB6E8EB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BABF-0B06-48FC-9D16-E84B4159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F3E-39D7-424B-88FC-C8BDA728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119-A2EB-462D-8607-6630B61E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8B8-FBBF-42D5-92E9-4E176067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FB39-BC68-4A99-B923-6E2E9837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8CC-1E8D-4442-851C-8E00F7A9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56C-882C-4D84-85EE-5FE90811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456-9D14-4DD9-9145-97A12C9B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621-7605-4FB2-99EA-5A1CCFFC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53D-AEB3-4BA1-8B20-38E1E47B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CD983-3892-48D5-8D93-C9ADD9942C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1993B-E92B-4C3D-B843-6DB0973C2A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A22E9-81F3-42BF-AD81-3AFD013E4E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1F70B-2D70-46FE-8F2F-F7EED42743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6F527-D312-49DB-B384-69B462AA65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42F09-680B-4D44-ABEE-A3F0092B4C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989FF-CD6C-4047-B45F-E8AA4FB28F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1AA5A-8A00-4AF5-913C-0EE489A90F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2B4BC-05AF-44F0-AFB6-98510B4ABA4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606EE-AE17-4B4D-BF0B-EFC5202FD0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45F01-58BE-4317-92C3-CF5B186B22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309B3-7CF1-4866-9E98-28EC177F79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EE7C1-6C72-48B5-9591-5D2FBD8C3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B9069-4A57-4F9C-BB56-57CE4354B22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EE654-CFF3-46F2-994C-2A5AA886D8A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0A8EA-EF3F-47F0-AF9A-1A17618BF68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50A66-1737-4F7C-8586-E9651C38493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F8E3E-0612-4604-8742-ED75FA846A7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F03BE-B3BE-495F-A26B-6805EC5E82F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1EC64-B47F-457C-92E7-EF555F7C03F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15688-F3BF-4C88-B596-DB4AA291F7D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4263F-B268-4BB7-9A1B-C8CE481836C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9B52F-2552-4BB2-83DA-CF4E94D4B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8C8DC-F6BF-4398-8D7B-7EC88600F9F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989D8-8019-4D0B-A92D-3F39811A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30F96-0D50-4167-A17C-4197D4A6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4A300-DD91-40E0-917E-CEE5CE00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C90FA-FB16-4782-88F3-0E01E726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97BD9-3674-4F0B-BBB3-F28AD113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E447D-4ED3-4FFD-A7AE-E3D7CFB4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160DD-4323-444E-BB2F-80918E22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67E77-1860-40ED-8C35-BEC50917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BA158-A652-4CCD-B6F5-17BE6930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AAE4C-F5F4-4632-9205-7EB8AA8B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A76C2-3429-4C0B-94A6-75AFA50E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14C689-538E-4E58-8DC2-F4D4081F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FB7F-2577-4F04-BEFF-1BB4DA193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slide2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533520" y="990720"/>
            <a:ext cx="8076960" cy="533160"/>
          </a:xfrm>
          <a:prstGeom prst="rect">
            <a:avLst/>
          </a:prstGeom>
          <a:gradFill rotWithShape="0">
            <a:gsLst>
              <a:gs pos="0">
                <a:srgbClr val="1b357d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4"/>
          </p:nvPr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AE45-7462-4008-BC49-435FFAA11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corp-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59C6-1E80-4716-9D68-564C7D945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6A87-794F-43BB-B9DE-5F4AABDEB8E6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9303-0E82-4953-B819-471883E564FB}" type="slidenum">
              <a:rPr b="0" lang="en-C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39640" y="4952520"/>
            <a:ext cx="3270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Verdana"/>
              </a:rPr>
              <a:t>North Etobicoke LIP Summit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Verdana"/>
              </a:rPr>
              <a:t>Woodbine Convention Centr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Verdana"/>
              </a:rPr>
              <a:t>June 28</a:t>
            </a:r>
            <a:r>
              <a:rPr b="0" lang="en-US" sz="1500" spc="-1" strike="noStrike" baseline="30000">
                <a:solidFill>
                  <a:srgbClr val="898989"/>
                </a:solidFill>
                <a:latin typeface="Verdana"/>
              </a:rPr>
              <a:t>th</a:t>
            </a:r>
            <a:r>
              <a:rPr b="0" lang="en-US" sz="1500" spc="-1" strike="noStrike">
                <a:solidFill>
                  <a:srgbClr val="898989"/>
                </a:solidFill>
                <a:latin typeface="Verdana"/>
              </a:rPr>
              <a:t>, 2011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539640" y="4149720"/>
            <a:ext cx="6985080" cy="647640"/>
          </a:xfrm>
          <a:prstGeom prst="rect">
            <a:avLst/>
          </a:prstGeom>
          <a:solidFill>
            <a:srgbClr val="26368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Diagram 1" descr=""/>
          <p:cNvPicPr/>
          <p:nvPr/>
        </p:nvPicPr>
        <p:blipFill>
          <a:blip r:embed="rId1"/>
          <a:stretch/>
        </p:blipFill>
        <p:spPr>
          <a:xfrm>
            <a:off x="695160" y="171360"/>
            <a:ext cx="7961400" cy="6448680"/>
          </a:xfrm>
          <a:prstGeom prst="rect">
            <a:avLst/>
          </a:prstGeom>
          <a:ln w="0">
            <a:noFill/>
          </a:ln>
        </p:spPr>
      </p:pic>
      <p:sp>
        <p:nvSpPr>
          <p:cNvPr id="270" name="Oval 2"/>
          <p:cNvSpPr/>
          <p:nvPr/>
        </p:nvSpPr>
        <p:spPr>
          <a:xfrm>
            <a:off x="6121440" y="3059280"/>
            <a:ext cx="1782720" cy="1784160"/>
          </a:xfrm>
          <a:prstGeom prst="ellipse">
            <a:avLst/>
          </a:prstGeom>
          <a:solidFill>
            <a:srgbClr val="558ed5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"/>
          <p:cNvSpPr/>
          <p:nvPr/>
        </p:nvSpPr>
        <p:spPr>
          <a:xfrm>
            <a:off x="3186000" y="190440"/>
            <a:ext cx="1782720" cy="1784520"/>
          </a:xfrm>
          <a:prstGeom prst="ellipse">
            <a:avLst/>
          </a:prstGeom>
          <a:solidFill>
            <a:srgbClr val="9a9072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2697120" y="1679400"/>
            <a:ext cx="3749760" cy="3275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8"/>
          <p:cNvSpPr/>
          <p:nvPr/>
        </p:nvSpPr>
        <p:spPr>
          <a:xfrm>
            <a:off x="4572000" y="4594320"/>
            <a:ext cx="1782720" cy="1784160"/>
          </a:xfrm>
          <a:prstGeom prst="ellipse">
            <a:avLst/>
          </a:prstGeom>
          <a:solidFill>
            <a:srgbClr val="e46c0a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"/>
          <p:cNvSpPr/>
          <p:nvPr/>
        </p:nvSpPr>
        <p:spPr>
          <a:xfrm>
            <a:off x="4572000" y="209520"/>
            <a:ext cx="1782720" cy="1782720"/>
          </a:xfrm>
          <a:prstGeom prst="ellipse">
            <a:avLst/>
          </a:prstGeom>
          <a:solidFill>
            <a:srgbClr val="ccc1da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5705640" y="936720"/>
            <a:ext cx="1782720" cy="1782720"/>
          </a:xfrm>
          <a:prstGeom prst="ellipse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1"/>
          <p:cNvSpPr/>
          <p:nvPr/>
        </p:nvSpPr>
        <p:spPr>
          <a:xfrm>
            <a:off x="3313080" y="3013200"/>
            <a:ext cx="246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dern No. 20"/>
              </a:rPr>
              <a:t>Partnership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2"/>
          <p:cNvSpPr/>
          <p:nvPr/>
        </p:nvSpPr>
        <p:spPr>
          <a:xfrm>
            <a:off x="3405240" y="66204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Municip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3"/>
          <p:cNvSpPr/>
          <p:nvPr/>
        </p:nvSpPr>
        <p:spPr>
          <a:xfrm>
            <a:off x="5924520" y="1585800"/>
            <a:ext cx="185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Faith-based/ethnic organiz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4"/>
          <p:cNvSpPr/>
          <p:nvPr/>
        </p:nvSpPr>
        <p:spPr>
          <a:xfrm>
            <a:off x="4749840" y="560520"/>
            <a:ext cx="163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Chambers of Commerce/Employ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5"/>
          <p:cNvSpPr/>
          <p:nvPr/>
        </p:nvSpPr>
        <p:spPr>
          <a:xfrm>
            <a:off x="6316560" y="2781360"/>
            <a:ext cx="18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Local Training Bo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6288120" y="383544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Soci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7"/>
          <p:cNvSpPr/>
          <p:nvPr/>
        </p:nvSpPr>
        <p:spPr>
          <a:xfrm>
            <a:off x="6242040" y="5038560"/>
            <a:ext cx="14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Health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5084640" y="5719680"/>
            <a:ext cx="110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Federal Gover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9"/>
          <p:cNvSpPr/>
          <p:nvPr/>
        </p:nvSpPr>
        <p:spPr>
          <a:xfrm>
            <a:off x="3686040" y="5700600"/>
            <a:ext cx="103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Provincial Gover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2146320" y="4908600"/>
            <a:ext cx="149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Education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1"/>
          <p:cNvSpPr/>
          <p:nvPr/>
        </p:nvSpPr>
        <p:spPr>
          <a:xfrm>
            <a:off x="1193760" y="3871800"/>
            <a:ext cx="169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Employ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2"/>
          <p:cNvSpPr/>
          <p:nvPr/>
        </p:nvSpPr>
        <p:spPr>
          <a:xfrm>
            <a:off x="1465200" y="2211480"/>
            <a:ext cx="166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Local Settlement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3"/>
          <p:cNvSpPr/>
          <p:nvPr/>
        </p:nvSpPr>
        <p:spPr>
          <a:xfrm>
            <a:off x="2257560" y="1044720"/>
            <a:ext cx="103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21"/>
          <p:cNvSpPr/>
          <p:nvPr/>
        </p:nvSpPr>
        <p:spPr>
          <a:xfrm>
            <a:off x="680400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6936-9556-427C-8A0F-BAAA279EDA22}" type="slidenum">
              <a:rPr b="0" lang="en-CA" sz="1200" spc="-1" strike="noStrike">
                <a:solidFill>
                  <a:srgbClr val="1f497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Chart 1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2160" cy="689616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2"/>
          <p:cNvSpPr/>
          <p:nvPr/>
        </p:nvSpPr>
        <p:spPr>
          <a:xfrm>
            <a:off x="8459640" y="6308640"/>
            <a:ext cx="6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640D-BEB8-4C89-9B60-E122D13819A2}" type="slidenum">
              <a:rPr b="0" lang="en-CA" sz="1800" spc="-1" strike="noStrike">
                <a:solidFill>
                  <a:srgbClr val="1f497d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5440" y="14479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Create LIPs networking mechanis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Establish a policy foru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Identify professional development  opportunit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Next Step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9065-189F-42CD-B3D4-7DE864E29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685440" y="1571400"/>
            <a:ext cx="80010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tional best pract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Sectoral and cross-sectoral best practic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Dataset tool for assessment of a Welcoming Communi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and Learning Dissemination too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Developmental Evalu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Methods of Assess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15AC-EAEC-42EB-AAEA-DE066E873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533160" y="5214600"/>
            <a:ext cx="3276360" cy="8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Franklin Gothic Medium"/>
                <a:ea typeface="FrankRuehl"/>
              </a:rPr>
              <a:t>Thank You ~ Mer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39280" y="1484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LIPs stems from the Canada-Ontario Immigration Agreement Strategic Plan, Strategy 3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CIC and MCI (Ministry of Citizenship and Immigration) will work with municipalities and federal-provincial government departments to enable partnerships that will integrate newcomers into the economic and social life of Ontario communitie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CIC and MCI developed the LIP initiative, which was further refined, in consultation with the Association of Municipalities of Ontario (AMO) and the City of Toron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55B6-9938-4D19-84F5-E1D64636B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9280" y="162864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ario municipalities and regions want to encourage newcomers to settle and stay in their commun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munities that are organized, welcoming, and committed to helping newcomers succeed have the best potential to attract and retain new immigra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cal knowledge of the service delivery landscape is essential to building logical, clear, and coordinated settlement service pathways for newcom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ario municipalities want to provide a community lens on integration of funding decision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Why LI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BD8F-63CF-41EF-A055-ED34700AC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539280" y="1484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The objective of LIPs is to strengthen the role of regions and local communities in the integration of newcomers b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Supporting better coordination of integration services, including settlement and language training in local commun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Providing a framework to facilitate the development and implementation of sustainable local and regional solu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Supporting the development and implementation of strategies and plans that provide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 community-specific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 solutions for achieving better outcomes for newcom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A8E3-6E28-41D1-8045-4FD5C9838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440" y="14479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Approximately 34 of the 45 LIPs are in the implementation st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CIC continues to support the LIPs’ ability to meet and coordinate their action pla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LIPs are being rolled out nationally in those provinces that currently are not devol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LIPs Upd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0B6C-E3AD-430A-8C36-1E9E6D484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EE57-04C3-473E-8CFB-5EE933F32B40}" type="slidenum">
              <a:rPr b="0" lang="en-C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Diagram 2" descr=""/>
          <p:cNvPicPr/>
          <p:nvPr/>
        </p:nvPicPr>
        <p:blipFill>
          <a:blip r:embed="rId1"/>
          <a:stretch/>
        </p:blipFill>
        <p:spPr>
          <a:xfrm>
            <a:off x="122400" y="615960"/>
            <a:ext cx="882000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Greater Toronto Area Local Immigration Partner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2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5659-89E8-4DE6-B855-834D103F5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http://boscleaners.ca/wp-content/uploads/2010/06/Cleaning-Services-in-the-Toronto-Map.gif"/>
          <p:cNvPicPr/>
          <p:nvPr/>
        </p:nvPicPr>
        <p:blipFill>
          <a:blip r:embed="rId1"/>
          <a:stretch/>
        </p:blipFill>
        <p:spPr>
          <a:xfrm>
            <a:off x="536400" y="1566720"/>
            <a:ext cx="793116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Local Immigration Partnerships in Ontario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2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4397-AD2B-4287-AC2B-9F3330E12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rcRect l="34920" t="36025" r="35388" b="12768"/>
          <a:stretch/>
        </p:blipFill>
        <p:spPr>
          <a:xfrm>
            <a:off x="684360" y="1484280"/>
            <a:ext cx="7704000" cy="473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City of Toronto Neighbourhood Local Immigration Partnerships &amp; City Wide L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2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D542-AD04-45AF-BA52-BFAB755DD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rcRect l="12362" t="20525" r="29330" b="12116"/>
          <a:stretch/>
        </p:blipFill>
        <p:spPr>
          <a:xfrm>
            <a:off x="785880" y="1600200"/>
            <a:ext cx="75009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16:36:58Z</dcterms:created>
  <dc:creator>*</dc:creator>
  <dc:description/>
  <dc:language>en-US</dc:language>
  <cp:lastModifiedBy>Park Inn Guests</cp:lastModifiedBy>
  <dcterms:modified xsi:type="dcterms:W3CDTF">2011-06-23T13:45:42Z</dcterms:modified>
  <cp:revision>131</cp:revision>
  <dc:subject/>
  <dc:title>PowerPoint Presentation</dc:title>
</cp:coreProperties>
</file>